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DFC-4A07-489B-8FC5-1AD6DE1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F72-16E6-4073-9163-2B54668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A0D02-3945-4E6A-85E2-5AE8E5CD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68064-3990-4A4E-A44F-50E74735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EA1FA-AEAA-47D2-B3EF-187BB74B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7A2B9-3C20-47C6-8A44-21834F5E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D4B1B-8960-46B2-8DED-7BE997D8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57A4D-C31F-4188-AED1-90BC20E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4A658-10BE-4DAC-944D-0E774652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53701-3F15-4C2B-9CD1-AE19C908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8A407-0D44-46CE-81D3-DBEE0CA9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E53CC-4C7F-4BCF-9CAE-CE81A2DA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6BA-5C55-4C4E-A81F-4EA47003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9BCB6-D9A7-4846-91B6-5126AA2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BBA4F-CF0D-419E-963F-575773C4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612C0-30B2-4FB6-9403-84F87DC9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D9766-9880-4038-BDE6-20BA3887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B896D-5D39-491E-B3B8-6E7C5B1A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C06BE-76B6-4635-9448-8D8CEFB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8687B-0B79-4153-8C79-157FA1F8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89118-13F4-4457-AF90-EFD75B6B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BB35-9568-474E-A1B2-F9AE0834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81FE-2A55-46F2-8726-C65C7FCE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BB5-7B73-43C3-A169-25FE1DE1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9B8D7-7A04-4F83-B93D-7C8B366D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EF41-BDC9-4E54-B491-2B364069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2B1D1-6F3F-44FD-AB0D-087F80FC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7C269-C550-4246-BFF0-D162D38B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26873-FEFB-405B-A1BE-7A888C04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C09C6-2277-4B79-9FFA-8524213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66B10-8E18-49BA-AAAD-7EA674F0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CD37F-05D9-4FBA-B3C9-DD4AD49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27B08-8920-4B68-856D-72AAA1E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6674F-0D32-40F7-9EFC-38C82FB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424-9BFB-4565-815F-7FDDAB2C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83E69-2E42-49AE-939A-657B6A4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E3E1E-FA3D-42F9-A0BF-EEB250BC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D7A52-D23B-4808-B3BA-F6239FD4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5EF06-E8F5-45E8-98B0-69688E29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3B65-CF1A-4F7D-9242-C1B6C50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17E66-1491-436F-918D-E5E0A73C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8B1C3-CD97-4A22-83FB-6382B489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EC789-C29E-49FD-B177-BF47F84F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4F0F1-218E-42E5-AEAF-F6679CB4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D3B96-147E-41C1-B651-B11173D9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4639-4E6E-4974-901C-EBC8638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41201-1A8A-4F02-B13C-96B8558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D2A2-7511-4EDE-A48C-563F00B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8A9A3-9BE0-4C91-82CB-FE436B64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2CB00-B8BF-41D1-AE67-E6A08701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EF499-6F9E-4A3E-B1AF-54689D7F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5A039-28C9-44A2-A430-BC66A45F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F6AAF-5199-4992-A55D-41C356F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11107-5468-478C-9B75-ACF4851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951F9-EA2C-4EFF-A3A2-9F211139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438BE-7FB7-44C9-B788-B298FDDF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6B1-FB9C-46D2-9401-DAAE28FF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3FF2C-3A60-4BA8-99A5-F7A8DA28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B1C59-61E1-4FF4-8F20-82B8385F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9B04F-127C-4592-9305-A757E07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2A87B-F183-4E3E-BF35-E21CAFB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645E2-8A41-483A-89C4-FF3AECD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03A44-CD8F-4878-92D1-71BD6424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386B3-904B-45CF-988E-2A247786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CF857-A7CE-4D68-A9AC-C0AA1061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E9997-8A3F-4A51-A0AB-5DE3BD8D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C53E6-950B-4878-A00A-B6B2EA3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392B-DA8B-4935-8536-7B64CF57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C54B7-81E8-474F-A48D-BF0A00B6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572D6-28E4-4295-BF7F-A48AF9AE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BE76E-A144-4E40-BA2B-A348CB06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97023-A8A5-4382-A968-C2F9418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E68CD-0732-4E8A-8E49-8756B49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EC048-8044-4062-8931-DFE2F7CC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7A901-C11F-4078-9070-1F5AE14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A0D36-B0E5-4C5C-8C69-16AE9706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9DB80-5DE9-485A-B49A-835EB8DA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7896C-722F-4255-B351-E3D73F0C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68F0-D514-472F-9898-CC75F4F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FB958-9F06-4EF0-B42F-ABA5C66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06895-8B22-4A61-9334-62169D3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A308D-5EDA-4E51-9583-AA4856D8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3814E-D386-40FE-B796-C19E3678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0F64D-EE2C-42CA-BABA-1588E6F5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35837-DBB8-40F7-A9F5-8439408E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E7835-34E3-40C1-A255-75CBFC7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19DB6-3939-4DCD-B843-101ABFA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43911-DCC7-479B-8745-A35D5B5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D7EF3-D9E0-4E11-922C-928A8F4E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DD2-4C2A-4C8A-AAE1-64F9FAF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A47708-7C46-4E48-B645-3E5E8131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3A95B-BA1F-40B2-9436-F081DC84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7A7C7-50EF-4EAB-BEE9-60A4EDD4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C6CD6-C577-432F-B4FC-C3E7E19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C0053-7883-4AFA-A76E-27D2F215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F07B4-1253-4E5A-95F5-D8ADA08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13742-4A52-4631-A4F9-F7171DB6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91C0D-0028-40D5-90E4-E0FE25E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75DDE-3152-489B-9C56-3E151D5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D6447-5E7B-4844-A9ED-96416BC0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9896-12C3-4BAD-B9CC-F98D3C49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26B6A-2C9F-4E3F-B48B-C641ECC0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4F134-FD94-4178-9080-80C77F46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34415-1AF7-48DD-A1B2-1B33372B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C7FE3-AF50-4AC4-BCDF-7D200F3B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F5818-1D8D-4B9A-B913-AB69520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8982E-F07A-42BA-9420-F753D391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73D3F-0905-40EF-8EED-EA348F43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00AEC-B9E6-44D7-84FF-EC0C7A7B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E58F7-CB85-4F0F-9361-5B057FE2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92F69-F7D8-4CBD-BBF8-F07A9FE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C2C-547A-45EF-BEC5-615DF7C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E42-2878-47F6-98DE-B6E9E6AA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10C7D-A091-4D9E-B90E-635A3F6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89FC5C-0075-4C38-BAF4-CE622AC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227DE-953E-44F7-96A5-FC4E71EC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F57A4F-73E7-4C18-BC65-6E0B8450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9A1C2-3030-4A7B-BE19-68C4019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6AB7D-6790-4297-889B-8818E14A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D6F6F-07E7-4265-BFE3-BEAB45E7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CEBB8-4337-41B6-807D-71E07CC0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DA3D0-7C12-47E1-9FE0-D22BC411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2AA2D1-9B66-4F5E-8896-C1B759A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15DC-00CA-4910-9B21-1636022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68918-C58B-43C9-BDD3-1B1B661B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1CC0E-913F-4278-80EF-7682C31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626A1-2839-4BCA-B9A7-B264527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BB6796-1B2D-48DB-8C00-06C9E2E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3B1BD-67C4-48A4-BEF3-455353F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C3EE1-BF5F-4A8E-A670-D407CA4F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3D916-FC5E-4C2E-901D-3FC829E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FEE38-D43C-4834-91EB-5DE7A718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6675F-0389-4AD4-919C-59CD6154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685E1-C1D9-4BD2-9989-5B8C23A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3607-3C0E-480A-95DA-8E9859A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AEC54-865A-436C-81BB-8590951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89E37-923C-47B4-85CA-FA547A3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85791-FC68-47D0-837E-1E9AAA7B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7028D6-D614-468F-B565-0B39FCB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E008D0-8C27-4DBE-AAAA-5D768A0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EA0DA-D54E-41BB-85C0-13EF2D5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7D5AD4-62F9-45FA-AD49-98099220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20F93-677F-4F2B-AEF2-298E8524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C3395-6BCF-4149-B109-58C99E1D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F6F18-75C1-4861-9B19-DCE85C07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4735-3D28-40D7-AAC8-DEC443CA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16FD3-32FB-4621-B40E-478E2B1D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3D335-FE23-49A1-AE29-E9B7500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B88D2-D40B-4B4A-B327-35A9AE41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AF28E-4060-4360-85CD-B2F7F3BC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FA8216-D80F-454B-A6F0-DB975784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6725D-A90B-4DAF-8A91-4124DD5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E8A3F-03F1-4EED-8DA4-492F72E2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7F440-8469-406C-88CE-4E0626FD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B3824-CEC2-4AD0-9E80-0F1E428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3A51B-E48A-4C94-8DD9-5C4E1807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682B-DE76-42A1-8814-A9E4C135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C12B66-C8BD-4866-B67A-F386E0CF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0F318-2EE5-48F1-BF6E-8216502A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28F7C-1A8E-400A-A124-83C5A450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7D024-2BBF-4947-B624-6DE2443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70AED-9E8A-4E31-9C22-9523F57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A88E0-81A3-4C87-AD47-BF32E41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F3C408-452B-4194-99AD-EB42D40F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D357C-C0C5-4D22-889C-DAC6FF60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E1E98-BE35-427B-8655-3DC4644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E342D6-BADF-4562-ADB9-4C213DC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7ABB-295A-4507-B4D6-A2649799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9F7767-E667-47D9-8EBF-8D2BB06E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A7B3AE-D2D7-4CD2-BBFC-2A863742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59B8A8-DB83-4067-A247-D8C407D5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C9B5-98E4-495D-84E3-29E0C0A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CDB4-34D2-4862-9832-3F8152F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8900B-6794-4408-AB93-FF0D549A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8E588-7866-4F7D-A0A1-ED4745DD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BDF-7846-4D4B-9867-13126999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A6C1-ECAA-465F-9B80-75A20C2D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20DF-00B0-4DAE-8F45-5583FBA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AF72-80DF-4F0C-BAE7-4124456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F627E-91BD-4E41-BC5A-F4355EC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F853-9852-4670-84DB-33C3032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09A0-7820-44CB-AC9E-AA070E7B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4784-B256-4344-AE16-FF241D5E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C047-16BA-4742-88E4-579100AC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7FB0B-FB75-4ACC-A072-4E74A3A2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60391-6D70-4455-BDCF-948514D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F49-4EEB-4753-834A-8388B0C7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6AA11-B9E3-49BE-B95E-3CEF80D6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12BB-AEFD-430F-AD76-243AE91A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1231-C5DC-42E9-A969-8029638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239C2-592E-4FEF-9CFC-6C5819C1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852F-CDAB-4444-A16E-6FF07CA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0437-52A3-4934-8ECF-9F5D03E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AFFF-29D1-412A-9C3B-63050266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A6CD4-CEAC-479E-9366-3EDF739A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ED41-2A77-4737-88E1-2FD64F25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4CB15-2491-4E99-A848-0A6DC660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E8D-2830-4D25-8CA7-4E17A05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4989-324D-431B-819E-779AEEF5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9C27-497D-477F-AB30-9936E7D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45775-DF84-4F41-BDC4-2DDC02D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B9D1-19B7-41EB-9BD7-6C8D1493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0CE8-49C9-453B-8A73-96F2404B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3DD9-FB73-4478-8A6B-0B70418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2AFD2-9328-40EA-BCF1-6D54DFAD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6A30-1A67-46AB-8C1A-7C36235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2933-0DCB-4EB4-9CB0-4F88A93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470A-037D-4F97-A67E-0DEF3EA7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E27-C1A7-44DC-9CCF-4C61A2F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5BF3-DC93-44D4-8D9C-98A17044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2561-5FAB-49CA-8BE7-427F87F8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50EC-D74D-4FB2-BDB5-20C25E2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D21E-A92C-4B00-8911-3BB4FDC1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C986-25CC-43C1-9C16-686FFE23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1AFCE-5DD2-4E2F-B5C4-9DFB300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96B39-8347-49A0-A5D1-19F5563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D0C3-B664-484B-8499-C3CF852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6A149-781B-4C55-89C6-80592D6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4C8FA-A077-4B44-97EE-1AEF1D87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08E-F455-45E1-97D3-38E2554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1141-A352-4E72-AB8E-D66246A4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CEFBD-3CDF-4A71-8FE8-D40201BB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615B-F95F-4157-9688-0479377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7686B-41E7-4014-97DF-523D7405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07815-0CD8-45E1-97DF-A1EB788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310ED-121A-4A5B-A1A1-751EEF8C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CAB2-F262-4C21-A61B-CE6FE7A4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D5D06-3D9C-47A2-927C-7BE433EB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EE88-4CBC-405B-B6BB-7241010A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88CB8-5DE1-435F-8959-D48CBFB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4BE-CA96-470D-B1AE-16E6EDA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AE0E-854F-4285-A06F-D9F9A35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49F1-7E47-4442-8115-1CD6739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AB535-0DDB-4BA6-B4D3-1D57D1B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6F85-9F7D-47C5-AA41-48F60180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EAFD7-15FD-43BA-825E-F6FB22CC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3A480-C3C0-49E9-885F-B42F20E1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CD17-4029-4DCD-95A2-B598EBA8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69C9-CAA5-47E8-8C19-554EBB1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A5DD-820C-45EE-801A-1ADE29C6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5B1F-D921-4187-9050-5FA31EF4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333-A74E-4302-BD4B-2B09AF7F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C3445-4812-468C-B3E7-BB30BB6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09456-FB92-4D7D-B6F5-F62B4EA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9CBBE-10C1-42D4-9651-F403902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7415B-C919-40DF-B372-EF07971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EFF1F-DCF5-4C11-8A84-649EA2D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7133-F6D4-4AD7-BB1D-72A373ED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78D27-F533-4492-AC50-F1046693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A1A3-0F8F-46D2-BD43-0AD780AA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B78CC-84A1-4946-8978-A96FCA5D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A5F35-B54B-4456-9FBB-52C4D46F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A35-AB39-4F66-9BD5-49C3ABF15D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3D9-E37B-4D99-A9DB-821817BB8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2815-B0AE-4BBB-B621-FB781FE0C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EB7-63C6-4E0E-AA5F-8809E8629D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157-9589-4980-A42E-AC6BBAE857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DFF2-667A-4B3A-9A6D-59AE22ACDE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DCA1-55F8-4FD9-A74A-C327B4C90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F46D-3940-4AA5-B2E4-074EC204C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7A72-8A43-43AF-8DA8-BA0C12CEA3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631-77C9-4A4E-9FB7-9FE213D947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6B73-454D-4E82-A3FE-7C35E57F1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5CFA-6622-4BC5-82AE-816CD8DDC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47F-417D-472B-B971-A43CACFCF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0A14-4990-4B2A-A44A-DFEE9E9FA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53BA-9B36-4002-85FB-31F55066D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A2A-5729-4957-A4AC-F39902F74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0B23-C4FD-4DD2-902C-346AACCADD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0D4-359C-4E48-B510-758173BD3B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7954-2FDE-4E52-A640-7DA5D3552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A5C4-93CD-4E92-BAB0-26B7B3F3A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FB4E-1356-4D96-BA09-17331D758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C3F-004C-4C1E-8FCC-C50AB3C7F5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C81-5926-4CBE-AF16-5C930714EE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53A0-72D3-4AD5-B395-DE6DE7CD4B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72F-89D7-4B66-95E2-ACD5C82BE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FE6C-A83D-4787-9363-06E37CAF38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A7BF-92E4-4D75-857E-74B470675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FDBE-DE30-4ACF-B548-A1E140CB86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608-56E9-4E6A-B7C5-9A659A46BD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25B5-D2B3-44AD-BB51-82969D2B2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76B-E9A3-48CA-BD9D-6BC5BD25E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FE8-2DB5-4DAD-A46E-7C8498E8B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958-AB44-4D66-95CA-B62BAB115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975-4BBE-42A9-BFF2-0B72259369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921D-3203-4110-8BBD-256BBAFF1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32D-CC58-45C4-99A9-AB6615CEC5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2AC-36D1-491A-A701-C6D7023A5C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0528-1C2A-49E6-A488-56461DDBDD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ED9C-D1EC-4707-BFF9-951C4DC0A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4F95-E020-490D-BC75-BA9E1674B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71720" y="3166920"/>
            <a:ext cx="340056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1000080"/>
            <a:ext cx="8886960" cy="4857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81200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877080" y="2824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564000" y="324180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435640" y="321300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258920" y="3716280"/>
            <a:ext cx="1081080" cy="3193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56400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140328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63528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29272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6012000" y="4811760"/>
            <a:ext cx="720720" cy="318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1116000" y="5502240"/>
            <a:ext cx="431640" cy="31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851280" y="5516640"/>
            <a:ext cx="431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133200" y="2233440"/>
            <a:ext cx="8877600" cy="2391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44000" y="2781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4400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824400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8244000" y="422100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8373" descr=""/>
          <p:cNvPicPr/>
          <p:nvPr/>
        </p:nvPicPr>
        <p:blipFill>
          <a:blip r:embed="rId1"/>
          <a:stretch/>
        </p:blipFill>
        <p:spPr>
          <a:xfrm>
            <a:off x="671400" y="1057320"/>
            <a:ext cx="7801200" cy="4743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659640" y="3645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1692360" y="5459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4140360" y="5459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6659640" y="545940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3:4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